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67F-C6C2-4454-B368-BA15279E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591-66CD-44CC-8A19-B4E68707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23C-15BD-4632-9D24-93B1E656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489-BC85-49C2-AA18-22043FFA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37D1-8A9F-49E5-B3D5-FA049520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A99B-A52E-4C5E-A49D-3BAA277C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B323-F88A-46E9-9352-D98921AC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9B49-AF32-43FC-BC04-D3B54099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205E-89B8-4894-93AD-87C157DF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5883-FCCB-4C6E-B461-5BAD828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FB64-DAC2-4837-80D5-6662120C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9F2-C026-48ED-8D67-C104361D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76ED-999D-424C-9A30-BC0F7BCC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506D-C757-4485-B5AF-8B0353FB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9C6E-2FB9-40B2-8E71-193975C5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5EF8-9827-43C0-97EC-67D13F7A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AB6D-0F73-49A9-9C0B-5B028F8D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B79-291F-4E3B-A284-55644B8A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2BE-156C-46A3-B1F2-555AD1D2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3D9-4258-4A54-94EE-00047090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AC5-E6CA-4EB3-9887-54B49ACA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29A-8D34-4F73-8864-DAD595AC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FCE-8B4A-4BAA-84AB-120B5917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D30-1B41-410A-8FD6-6B493D65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80CC-F57D-4C80-8D86-245B91CD5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F8E5-8C27-4C24-A78C-2802DA22B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EMISSIONS REDUCTION USING HYDROGEN</a:t>
            </a:r>
            <a:br>
              <a:rPr sz="3700"/>
            </a:b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  FROM PLASMATRON FUEL CONVERTERS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TextBox 2" descr=""/>
          <p:cNvPicPr/>
          <p:nvPr/>
        </p:nvPicPr>
        <p:blipFill>
          <a:blip r:embed="rId1"/>
          <a:stretch/>
        </p:blipFill>
        <p:spPr>
          <a:xfrm>
            <a:off x="1322280" y="3371760"/>
            <a:ext cx="624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tron fuel converters provide electrical discharge in flowing gases of hydrocarbon fuels and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generation of reactive species in the following gases along with the increased mixing accelerates reformation of hydrocarbon fuels into hydrogen rich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also be utilised for increase in gas stream enthalpy,futher accelerating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ING(contd…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ost provided by the plasma can facilitate partial oxidation reactions with negligible soot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ideal stoichiometric conditions the partial oxidation reaction 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Hm + n/2 O2           nCO +m/2 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othermic re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rovides continuos ignition at the entrance of the fuel and helps in the gasification of fu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657600" y="44956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4343400" y="3809880"/>
            <a:ext cx="66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3666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052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DVANTA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potential to increase gasoline engine efficiency by 20 to 2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potentially reduce U.S. oil imports by 1.5 million barrel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duce diesel engine exhaust emissions by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modest engine modifications,but no major redesign of the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reason behind introducing this type of advancements is that it is our responsibility to protect our environment from emission haza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Box 3" descr=""/>
          <p:cNvPicPr/>
          <p:nvPr/>
        </p:nvPicPr>
        <p:blipFill>
          <a:blip r:embed="rId1"/>
          <a:stretch/>
        </p:blipFill>
        <p:spPr>
          <a:xfrm>
            <a:off x="1170000" y="4133880"/>
            <a:ext cx="624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   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CONTENTS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PLASMA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-a-day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l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become a major threat to th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hicular exhaust(NOx,CO,HC etc…) are mainly responsible for the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SMATRON fuel converter technology is the new technique introduced in this field to reduce the concentration levels of emi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ABOUT PLASMATRON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s have long known that adding hydrogen to gasoline makes an engine run cleaner and more effici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mid-1990s, scientists at the Massachusetts Institute of Technology (MIT) began looking at plasma technology as a possible solution to this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itable for both fu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trea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for exha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ter-trea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SCHEMATIC FIGURE OF                                        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PLASMATRON FUEL CONVERTER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Picture 4" descr="plas__carb"/>
          <p:cNvPicPr/>
          <p:nvPr/>
        </p:nvPicPr>
        <p:blipFill>
          <a:blip r:embed="rId1"/>
          <a:stretch/>
        </p:blipFill>
        <p:spPr>
          <a:xfrm>
            <a:off x="1600200" y="2057400"/>
            <a:ext cx="61722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YP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Emission control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Fuel pre-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Exhaust after-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Plasmatron fuel conve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Thermal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 Low curr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LOW ENGINE EMISSION CONCEPT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42900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01992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04812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56386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143000" y="2743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uel 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657600" y="2666880"/>
            <a:ext cx="12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nboard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lasmatronFuel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095880" y="2895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ltra lean Burn Gasoline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600200" y="182880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e.g. 2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267080" y="1981080"/>
            <a:ext cx="289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Hydrogen-rich gas (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+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792468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8288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1828800" y="4800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693432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320040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8153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6477120" y="5562720"/>
            <a:ext cx="2666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educed pollutants (N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creased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676520" y="571500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e.g. 7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32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H2-Assisted NOx Trap: Test Set-up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332240" y="3873600"/>
            <a:ext cx="1152720" cy="347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x Tra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1496880" y="4778280"/>
            <a:ext cx="1301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948040" y="4038480"/>
            <a:ext cx="0" cy="133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50960" y="4605480"/>
            <a:ext cx="81288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6200640" y="4057560"/>
            <a:ext cx="6080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210360" y="5348160"/>
            <a:ext cx="5889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6804000" y="4778280"/>
            <a:ext cx="895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454120" y="3467160"/>
            <a:ext cx="11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or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613320" y="3274920"/>
            <a:ext cx="0" cy="15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899400" y="4414680"/>
            <a:ext cx="12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Tail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332240" y="5173560"/>
            <a:ext cx="1152720" cy="347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x Trap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97520" y="4062240"/>
            <a:ext cx="1800" cy="129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5"/>
          <p:cNvGrpSpPr/>
          <p:nvPr/>
        </p:nvGrpSpPr>
        <p:grpSpPr>
          <a:xfrm>
            <a:off x="2798640" y="4605480"/>
            <a:ext cx="244080" cy="347040"/>
            <a:chOff x="2798640" y="4605480"/>
            <a:chExt cx="244080" cy="347040"/>
          </a:xfrm>
        </p:grpSpPr>
        <p:sp>
          <p:nvSpPr>
            <p:cNvPr id="135" name="AutoShape 16"/>
            <p:cNvSpPr/>
            <p:nvPr/>
          </p:nvSpPr>
          <p:spPr>
            <a:xfrm>
              <a:off x="2880000" y="4779000"/>
              <a:ext cx="162720" cy="1735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7"/>
            <p:cNvSpPr/>
            <p:nvPr/>
          </p:nvSpPr>
          <p:spPr>
            <a:xfrm rot="10800000">
              <a:off x="2880000" y="4605480"/>
              <a:ext cx="162720" cy="1735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8"/>
            <p:cNvSpPr/>
            <p:nvPr/>
          </p:nvSpPr>
          <p:spPr>
            <a:xfrm rot="5400000">
              <a:off x="2792880" y="4697280"/>
              <a:ext cx="173880" cy="1627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9"/>
          <p:cNvSpPr/>
          <p:nvPr/>
        </p:nvSpPr>
        <p:spPr>
          <a:xfrm flipH="1">
            <a:off x="2962440" y="4778280"/>
            <a:ext cx="65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2881440" y="4692600"/>
            <a:ext cx="161640" cy="17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948040" y="4038480"/>
            <a:ext cx="1384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2948040" y="5375160"/>
            <a:ext cx="1384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076400" y="5772240"/>
            <a:ext cx="22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ing Val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4"/>
          <p:cNvSpPr/>
          <p:nvPr/>
        </p:nvSpPr>
        <p:spPr>
          <a:xfrm flipV="1">
            <a:off x="2135160" y="4992480"/>
            <a:ext cx="65088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2984400" y="2712960"/>
            <a:ext cx="1166760" cy="555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851120" y="2963880"/>
            <a:ext cx="6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1841400" y="26654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3595680" y="2300400"/>
            <a:ext cx="0" cy="411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2400480" y="281952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0"/>
          <p:cNvSpPr/>
          <p:nvPr/>
        </p:nvSpPr>
        <p:spPr>
          <a:xfrm flipV="1">
            <a:off x="2414520" y="3117960"/>
            <a:ext cx="568440" cy="14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238560" y="1979640"/>
            <a:ext cx="8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2"/>
          <p:cNvSpPr/>
          <p:nvPr/>
        </p:nvSpPr>
        <p:spPr>
          <a:xfrm>
            <a:off x="7149960" y="4686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3"/>
          <p:cNvSpPr/>
          <p:nvPr/>
        </p:nvSpPr>
        <p:spPr>
          <a:xfrm>
            <a:off x="3873600" y="396252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4"/>
          <p:cNvSpPr/>
          <p:nvPr/>
        </p:nvSpPr>
        <p:spPr>
          <a:xfrm>
            <a:off x="3886200" y="528336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5"/>
          <p:cNvSpPr/>
          <p:nvPr/>
        </p:nvSpPr>
        <p:spPr>
          <a:xfrm>
            <a:off x="2019240" y="4686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6141960" y="3971880"/>
            <a:ext cx="284400" cy="1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H="1">
            <a:off x="6243480" y="4005360"/>
            <a:ext cx="7632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8"/>
          <p:cNvSpPr/>
          <p:nvPr/>
        </p:nvSpPr>
        <p:spPr>
          <a:xfrm>
            <a:off x="5486400" y="4048200"/>
            <a:ext cx="652320" cy="0"/>
          </a:xfrm>
          <a:prstGeom prst="line">
            <a:avLst/>
          </a:prstGeom>
          <a:ln w="25560">
            <a:solidFill>
              <a:srgbClr val="d6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477040" y="5343480"/>
            <a:ext cx="645840" cy="3240"/>
          </a:xfrm>
          <a:prstGeom prst="line">
            <a:avLst/>
          </a:prstGeom>
          <a:ln w="25560">
            <a:solidFill>
              <a:srgbClr val="d6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5729400" y="396864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6126120" y="5270400"/>
            <a:ext cx="284040" cy="1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 flipH="1">
            <a:off x="6227640" y="5303880"/>
            <a:ext cx="7632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3"/>
          <p:cNvSpPr/>
          <p:nvPr/>
        </p:nvSpPr>
        <p:spPr>
          <a:xfrm>
            <a:off x="5713560" y="526716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4839480" y="455760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ke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5"/>
          <p:cNvSpPr/>
          <p:nvPr/>
        </p:nvSpPr>
        <p:spPr>
          <a:xfrm flipV="1">
            <a:off x="5911920" y="4228920"/>
            <a:ext cx="390600" cy="40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6"/>
          <p:cNvSpPr/>
          <p:nvPr/>
        </p:nvSpPr>
        <p:spPr>
          <a:xfrm>
            <a:off x="5924520" y="4734000"/>
            <a:ext cx="276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371600" y="609480"/>
            <a:ext cx="7315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iesel Engine Emissions Aftertreatment    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                         Concept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114800" y="3429000"/>
            <a:ext cx="178452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sm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5943600" y="3503520"/>
            <a:ext cx="66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676520" y="3429000"/>
            <a:ext cx="1114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209680" y="2895480"/>
            <a:ext cx="1800" cy="49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144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haus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ine (Oxygen ric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286000" y="4572000"/>
            <a:ext cx="14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381720" y="202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600200" y="5257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exha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629400" y="2970360"/>
            <a:ext cx="111456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914400" y="129528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876920" y="12952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7238880" y="396072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6553080" y="4508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exha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09480" y="1905120"/>
            <a:ext cx="30481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4038480" y="1828800"/>
            <a:ext cx="43117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86000" y="2895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800600" y="2895480"/>
            <a:ext cx="144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4267080" y="1828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am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sel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 flipH="1">
            <a:off x="6172200" y="2514600"/>
            <a:ext cx="533520" cy="80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6782760" y="198108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h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609480" y="5180040"/>
            <a:ext cx="7772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3:47:47Z</dcterms:created>
  <dc:creator>Mechanical Engineering Project</dc:creator>
  <dc:description/>
  <dc:language>en-US</dc:language>
  <cp:lastModifiedBy>Brigade</cp:lastModifiedBy>
  <dcterms:modified xsi:type="dcterms:W3CDTF">2011-12-10T17:20:54Z</dcterms:modified>
  <cp:revision>1</cp:revision>
  <dc:subject/>
  <dc:title>Mechanical Engineering Project</dc:title>
</cp:coreProperties>
</file>